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AD13-9CF9-47F4-A3CA-419E85735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4815-7E46-4267-AC75-84C37206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4746-D229-47DA-8AC9-57ECC9B59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D748-CC09-4437-A5A2-25CC1D162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0C68-B3C7-43BB-89EB-AA1453AD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A7D6-D0AD-416E-9C95-B30BF737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CDAC-1B2E-4283-BE59-8B02952B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29B3-F03D-4C0F-8C73-CCB90EDD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B8D8-7A40-4D28-9ACC-02D62556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15D8-C1DC-42AC-8086-F2906F08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1519-55F9-4A87-B89D-1A061A94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7C82-4AC2-4609-8B0F-70CEE49A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2101-0555-40C5-B5F2-8BCD0DC15A4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كبر والبطر والتعالي على الخلق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هي عن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حقيقة ضعف وعجز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ن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3" name="مربع نص 1"/>
          <p:cNvSpPr/>
          <p:nvPr/>
        </p:nvSpPr>
        <p:spPr>
          <a:xfrm>
            <a:off x="250920" y="2421000"/>
            <a:ext cx="86612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عدم قتل الأولاد خشية الفق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بعد عن جميع الفواحش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عدم قتل النفس التي حرم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4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بعد عن مال اليتيم التي بالتي هي أحس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5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وفاء بالكيل والميزان بالعد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6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عدل في القو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7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وفاء بعهد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8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عدم اتباع غير سبيل ا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425520" y="981000"/>
            <a:ext cx="8486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7" name="مربع نص 1"/>
          <p:cNvSpPr/>
          <p:nvPr/>
        </p:nvSpPr>
        <p:spPr>
          <a:xfrm>
            <a:off x="250920" y="191628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مثل ما حدث اليوم في بلاد سوريا اليوم من اعتداء حكومتها على شع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295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-22320" y="95580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4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298440" y="1628640"/>
            <a:ext cx="864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4" descr=""/>
          <p:cNvPicPr/>
          <p:nvPr/>
        </p:nvPicPr>
        <p:blipFill>
          <a:blip r:embed="rId1"/>
          <a:stretch/>
        </p:blipFill>
        <p:spPr>
          <a:xfrm>
            <a:off x="1058760" y="3578400"/>
            <a:ext cx="7834320" cy="2298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324000" y="162396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تى لا يقع في الز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4"/>
          <a:stretch/>
        </p:blipFill>
        <p:spPr>
          <a:xfrm>
            <a:off x="1477800" y="1052640"/>
            <a:ext cx="7415280" cy="571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5"/>
          <a:stretch/>
        </p:blipFill>
        <p:spPr>
          <a:xfrm>
            <a:off x="3336840" y="2239920"/>
            <a:ext cx="5575320" cy="54612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324000" y="281628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نشر الفساد في الأرض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5" descr=""/>
          <p:cNvPicPr/>
          <p:nvPr/>
        </p:nvPicPr>
        <p:blipFill>
          <a:blip r:embed="rId6"/>
          <a:stretch/>
        </p:blipFill>
        <p:spPr>
          <a:xfrm>
            <a:off x="214200" y="4076640"/>
            <a:ext cx="5005440" cy="622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"/>
          <p:cNvPicPr/>
          <p:nvPr/>
        </p:nvPicPr>
        <p:blipFill>
          <a:blip r:embed="rId7"/>
          <a:stretch/>
        </p:blipFill>
        <p:spPr>
          <a:xfrm>
            <a:off x="1819440" y="4727520"/>
            <a:ext cx="3365280" cy="501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"/>
          <p:cNvPicPr/>
          <p:nvPr/>
        </p:nvPicPr>
        <p:blipFill>
          <a:blip r:embed="rId8"/>
          <a:stretch/>
        </p:blipFill>
        <p:spPr>
          <a:xfrm>
            <a:off x="214200" y="5300640"/>
            <a:ext cx="49341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33200" y="2109960"/>
            <a:ext cx="8877600" cy="13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"/>
          <p:cNvPicPr/>
          <p:nvPr/>
        </p:nvPicPr>
        <p:blipFill>
          <a:blip r:embed="rId1"/>
          <a:stretch/>
        </p:blipFill>
        <p:spPr>
          <a:xfrm>
            <a:off x="324000" y="1471680"/>
            <a:ext cx="8550000" cy="2965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59120" y="4400640"/>
            <a:ext cx="34797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2124000" y="1052640"/>
            <a:ext cx="6792840" cy="635040"/>
          </a:xfrm>
          <a:prstGeom prst="rect">
            <a:avLst/>
          </a:prstGeom>
          <a:ln w="0">
            <a:noFill/>
          </a:ln>
        </p:spPr>
      </p:pic>
      <p:sp>
        <p:nvSpPr>
          <p:cNvPr id="50" name="مربع نص 1"/>
          <p:cNvSpPr/>
          <p:nvPr/>
        </p:nvSpPr>
        <p:spPr>
          <a:xfrm>
            <a:off x="250920" y="184320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بعد أن ذكر الله حقوقه وحقوق العباد ذكر الله تعالى هنا المحرم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6468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6169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1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42160" cy="100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"/>
          <p:cNvPicPr/>
          <p:nvPr/>
        </p:nvPicPr>
        <p:blipFill>
          <a:blip r:embed="rId2"/>
          <a:stretch/>
        </p:blipFill>
        <p:spPr>
          <a:xfrm>
            <a:off x="250920" y="2062080"/>
            <a:ext cx="8642160" cy="471348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95280" y="400536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خافة الفق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395280" y="447660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ثماً عظيم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395280" y="495936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تجاوز الح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363600" y="5373720"/>
            <a:ext cx="48243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تتب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395280" y="582300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كبر وخيل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374760" y="632772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طرود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3564000" y="1359000"/>
            <a:ext cx="3600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حرم الله تعالى على العبا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قتل الوالدين لأولادهم خوفاً من الفق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زن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عظائم الذنوب وكبائر الآث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فس التي حرم الله قتلها هي نف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مؤمن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الكافر الذي له عهد او أمان او ذ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66760" y="3068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جوز قتل النفس المعصومة في ثلاث حال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نفس بالنفس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زاني المحصن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ارك لدينه المفارق للجماع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386064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صدار الأحكام القضائية وتنفيذها راجع إ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لي أمر المسلمين ومن يقوم مقام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437508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احب الحق في القصاص أو الدية أو العفو هو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لي المقتو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50920" y="487980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وفاء بالعه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540216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دل وإيفاء المكاييل والموازين بالقسط من غير بخ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5907240"/>
            <a:ext cx="86659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حفظ الجوارح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50920" y="6389640"/>
            <a:ext cx="86659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نسان مسؤول ع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وارح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9T23:01:00Z</dcterms:modified>
  <cp:revision>1993</cp:revision>
  <dc:subject/>
  <dc:title>عرض تقديمي في PowerPoint</dc:title>
</cp:coreProperties>
</file>